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378-F851-46FF-8743-54A2D222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657-E422-4EF8-A0F8-3D11053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361-53F1-440F-BF9B-58F12CA0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FE2-C569-41AB-B842-69BC49CE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C96-F5E1-476B-BA70-9CC44FBB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1922-10D9-4007-AC78-59C31B0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D96-A191-47B9-96A0-CD2E5EB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9A69-C24F-49C2-B8A9-84C351E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C82D-F659-49EA-A344-5CF4E579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662E-9484-4531-BE46-B1D2D7A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FE1-BDF1-4F01-8CEE-5FFBE28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747-BE5D-49F6-998E-E9F6C816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0215-EC44-4890-8140-ECE2BE4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69B4-5630-4617-83F1-5D8E4FF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80B9-8677-44DC-882C-C9D0404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EC1-4296-4075-A19A-86532A04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1DB0-F906-4DDC-8713-A8C679C0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49817-706E-4090-B307-91FD899E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F10A6-6D2A-43C9-8273-E5A8B6F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5CF10-FE63-43AF-92D7-1FC1E55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782E6-C76B-4AB6-B1C5-472532F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0AFE1-7342-4442-AF01-C6FC615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AEE-A3F0-4387-A9A1-5A6593D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39143-5DA6-4EDD-AC3F-31BC9FA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E735B-C4D7-485E-868B-1B64904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BB570-89D9-4ECB-A87C-C9DFB66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B4C1B-6E28-43F8-9956-8B4D030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91FA0-4F01-46C2-A3A8-BF05FF11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55B97-622C-4B78-951C-997E1989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1A831-A91C-4290-B508-5E070312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7609-B9BC-4084-ADCB-B54B50E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E6F5-98C4-4599-BB86-96819CBC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7706-9EC1-446C-8E8B-64E003C7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698-1D1E-4EE9-9CDB-FCCF2783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1E47-4C11-4C5A-9EB0-EF1E56E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8F0AD-4C60-4BCF-81FF-ADE48E0A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D887-D14D-4EBF-842B-8A0ABC2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5AFA-AC01-4E60-A4AA-F9EB17E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953B-A882-4FA5-B473-2F59DE74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42EB-A2E9-467A-8CC5-0045A9E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3E80-C229-42E6-B209-437E8A01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AE8B-5760-49AF-A336-60F6C757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6B05-B3C4-4BA8-8998-CEAF356B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CEC87-737D-47F0-914F-52E0EF6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445-8BDA-426B-AB40-DB84330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6AF8E-FB13-4AB0-A851-9BB31F96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A554C-4F81-4808-9A28-CAD7A1B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6657E-AD3D-447B-BCE7-AD5060BD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64E12-ADF7-408B-90FC-9787C30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13BA7-E9EE-442B-BD18-C5A7F6BF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8176C-2642-4B7A-9086-65B38F7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45E4B-8042-4A05-B515-0657375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BEF9B-A3C3-4B69-9C6E-43A31AB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0802E-429C-49ED-AA6D-58CFD9F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8441C-ECB3-4669-A9FB-E816EF5E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919-3264-4140-B765-2FC76631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0D4CE-E32C-4E5F-8A0A-C977C75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EB2CA-D8BE-4A20-B202-F9B93E7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730BC-DF0E-4B67-A0F5-DB0B3319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9C26F-5C9E-4B8E-A948-FE21D524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336FE-32DC-487D-8E98-E19829E5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0826B-42E5-42CF-A2BC-E0069FED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C05AB-04F9-4EA2-AA9F-AEF08630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528DE-B79B-444B-A8CE-606AC21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34857-8173-40AC-812A-B9FB359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D3359-EE32-4566-89C5-6DC652E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52D-D158-46C9-B5F8-24BF7FB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22B43-E238-4470-A5D1-C24BF236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3ABC9-5162-4709-B0E0-FB9C8560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E36D0-94AF-4338-8153-57B960D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2556D-231D-4163-899D-83FAC3A1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00D13-887D-453F-BF9A-624569B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A1737-58EE-406D-9421-ED201FB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A6BD0-DE82-431F-84C0-A08F9606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0EA20-C377-4D56-A3DF-3EEE426C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5F334-C9C1-4BAD-B38A-72B1B23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03B90-2C2C-49DB-BBA9-A872775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7C5-E644-48B7-8640-6E29D98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7325B-2F42-4B30-8F37-A69551E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F97F9-2E4B-4717-A03A-54C6FA1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91FA0-E7A6-49CD-ADDA-7C446C8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26D98-3812-437E-AF35-086CF11C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AF146-9309-472D-ADCF-DF952521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5CB-AC48-4B91-9C80-3A8D9DE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DCF8-3B74-403C-86B5-2FD061A19A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043-6B19-41E2-9F1F-DEF0F9D692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6162-AFA3-42DE-B274-48E79DEB98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580-093A-4D10-8149-1876BADD10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7B6-0B4B-4652-8603-73F194C64A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97C9-A16D-4D06-BDC8-6ABC4686EA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870-536E-4F53-800E-7F8E833B7B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75f6d"/>
                </a:solidFill>
                <a:latin typeface="Century Schoolbook"/>
              </a:rPr>
              <a:t>WHO CONTROLS THE MEDIA</a:t>
            </a:r>
            <a:r>
              <a:rPr b="1" lang="en-GB" sz="3000" spc="-1" strike="noStrike">
                <a:solidFill>
                  <a:srgbClr val="575f6d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A Level Media Stud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2686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GAZIN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o a content analysis of a popular glossy magaz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many pages are dedicated to advertis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does the magazine promote itself to potential advertis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o has the most power/influence over the content of the magazine – readers, producers or advertis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410080" y="525780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o constructs the representations we see in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s it the institutions who produce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r the audience who consume the medi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rket-liberalism v political-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RKET-LIBERAL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tresses the power of the audience over media produc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udience preference decides what media texts are produce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his is achieved through.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Purchase of media texts (CDs, magazines, computer gam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Paying to access media texts (film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aking out subscriptions that provide access to media texts (Sky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Recording hits on internet si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udience resear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RKET-LIBERALIS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power lies with the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ducers have to be sensitive to audien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2819520" cy="32418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876920" y="41911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</a:rPr>
              <a:t>Hillsborough tragedy – The Sun loses readers from Liverpoo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IC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resses the power of the media producers over media texts and their influence on an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market APPEARS to offer freedom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ever, there is inequality in whose interests the media ope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ose with more money  or those seen as more appealing to advertisers will have a range of media products orientated to their nee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are limits on the production of media texts for other group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IC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ducers tend to avoid risk, shunning innovation and original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llywood cinema has a tendency to use tried and tested genres/styles/actors/direct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y also may avoid any representations that may be seen as challenging the values and ideologies of the audien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ADVERTISING AND SPONSORSHI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vertising has had a major influence on the structure and output of the British print med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vertising and sponsorship contributes a significant proportion of the revenue for many media produc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gazines – advertising revenue is 50 to 80 perc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edia producers focus on providing the media for the sectors of the population that the advertising industry wants to addr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s media is often produced to appeal to advertisers, it will always promote consumeris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OLITICAL-ECONOMY PERSP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ather than media producers responding to audience needs and wants, they are packaging audiences to sell them to advertis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ees the power of media organisations as open to abu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me media producers are seen as promoting particular political positions in their tex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x news in USA – supports Republican party/Bush administr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edia producers silence or restrict certain political debates/issues/viewpoints being expressed to help support certain political agen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46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MD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is website is a good example in which an audience is packaged and sold to advertis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is heavy advertising and a link to Amazon, online sellers of DVDs, music and book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23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12:11Z</dcterms:created>
  <dc:creator>Colin Manson</dc:creator>
  <dc:description/>
  <dc:language>en-US</dc:language>
  <cp:lastModifiedBy>Colin Manson</cp:lastModifiedBy>
  <dcterms:modified xsi:type="dcterms:W3CDTF">2010-11-17T20:36:24Z</dcterms:modified>
  <cp:revision>8</cp:revision>
  <dc:subject/>
  <dc:title>Who Controls the Media?</dc:title>
</cp:coreProperties>
</file>